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A803-F8C6-4B73-8A69-9699C2DF2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in this slide will not work, were here as a reminder to pres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96AD-6674-4DAA-93E8-09007735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AA5-1A00-4B9F-B1F2-FB3638B5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9F4-1CDF-4B40-9759-F2D3FCFC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638-89B5-49E1-B3C4-BD47488B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F3F1-DF0F-463A-BFED-533FA114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D0BA-5636-4371-82CA-C9072F20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2BE7-0609-4751-8B56-24B355F7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066E-750D-4B0D-9100-1444701D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B742-6637-41E8-AC24-C4DDF4D4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7BF3-F76C-439A-82E8-2638E001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724C-8263-4AF1-9244-9F61040D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A3E-1EF5-43F8-88F7-33A0A447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42AC-10CF-46F4-8689-E4CEFDB3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9865-E747-472F-ABF3-A254739F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737A-F3AA-42C2-B30D-C59FF247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F911-7A1A-4284-B0AB-AEC3521F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518D-5CCC-4FF6-9835-D4FC9007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EC9D-F617-46BD-9385-594EC2F9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BA9-9EF2-4484-8330-98494D5B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5058-DC7F-4B8C-BAA4-E2301384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1AC-D9D1-47F5-BAB9-BB2CB6CE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921-FBA7-4DFB-831B-5EAF5851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32AB-EB73-40A6-A090-2844D023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1313-CDF8-44B9-B892-F258ADEA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F4D5-A5F6-44F6-BA80-71A6538F7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5774-5D7F-46B9-BE62-6582AFA6B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anger.ac.uk/genetics/CGP/cosmic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gp-gbrowse.internal.sanger.ac.uk/mgb2/gbrowse/COLO-829/?start=140099580;stop=140099660;ref=7;width=800;version=100;flip=0;grid=on;id=0a3149f19297add05e7c13c8700dd1c0;label=http_deskpro14284.dynamic.sanger.ac.uk_9000_das_cosmic_mutation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gp-gbrowse.internal.sanger.ac.uk/mgb2/gbrowse/PD3991/?start=43536896;stop=43536920;ref=5;width=1024;version=100;flip=0;grid=1;id=0a3149f19297add05e7c13c8700dd1c0;label=CMAN-Read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 of GBrowse 1.999 in the Cancer Genome Proje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ran 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r Genom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come Trust Sanger Instit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2@sanger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olegenome da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s are random but size se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detect re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depth, high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s much l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 needs to work with 2x100GB files…. It does it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knowledg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g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cerIT (CGP it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frequent respondents to my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 C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to all on the Gbrowse mailing list for putting up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ef history of the CG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MIC - DAS vs. GFF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 pitf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me ~ 5GB BAM 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genome ~ 100GB BAM 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brief history of CG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screening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rodu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y sequ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mina Next 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4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COSM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ame a public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 brief history of CG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47920" y="1676520"/>
          <a:ext cx="6858000" cy="42606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roduplex screening with capillary confi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IT sta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/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llary sequenc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IT staff CSA develop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/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xt Gen with capillary confirm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IT sta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ne day in a meeting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we going to view next gen seq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-12 month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hink about it, can we have a solution within the mon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2 w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SMI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ogue Of Somatic Mutations In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available to all as down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your own front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currently being updated to latest spec to maintain Ensembl draw functional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SMIC - DAS vs. GFF3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D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s in GBrowse2 (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search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ly showing confirmed variations via GFF3 in GBrows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vial to provide GFF3 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probably include config for GBrowse2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AS data in COS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ome Next Gen bloop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get human ref seq from Ensembl to use for ma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has PAR regions masked to ‘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rtificially make reads map uniqu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your MT sequence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bank has recently been updated to show the correct s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was sequence for a small village in Africa (will not make it into Ensembl for a while due to build cyc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xome da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ed to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depth, 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(few lanes nee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Work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3:54:02Z</dcterms:created>
  <dc:creator>Sanger Institute</dc:creator>
  <dc:description/>
  <dc:language>en-US</dc:language>
  <cp:lastModifiedBy>Sanger Institute</cp:lastModifiedBy>
  <dcterms:modified xsi:type="dcterms:W3CDTF">2010-01-15T19:17:26Z</dcterms:modified>
  <cp:revision>8</cp:revision>
  <dc:subject/>
  <dc:title>Use of GBrowse 1.999 in the Cancer Genome Project</dc:title>
</cp:coreProperties>
</file>